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B677-4F23-4BDB-8C25-60D45C308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E2CD-18AB-45A6-9FB8-5861C403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5C55-914F-4F91-8B82-E00BCF6D4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37E5-ABC7-48FB-8890-6F2A5C509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BB91-B6C3-419C-81C5-AEC19D90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1282-1111-4767-8DC8-5C841ACE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7B87-2E1A-4E31-B9E1-4B6EBB3F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07D8-743B-4468-87F5-56B9A624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A853-996F-41AD-8F9A-A87537FC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369E-6002-4091-A53E-260FDF5F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E8EE-76AD-4E6F-8706-3820727A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3643-F4E7-4DEC-8D3E-C7679F0D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EF4F-25EE-4167-AC83-A474F6ADF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ember 21 Homework Hel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set up for Cross Multipl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by Step Solution to Questio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447920" y="2743200"/>
                <a:ext cx="102240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993960" y="1143000"/>
            <a:ext cx="66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 calls in 12 hours  =  ______   calls in 3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4120" y="1905120"/>
            <a:ext cx="467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et up an equivalent 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1613520" y="2880720"/>
            <a:ext cx="79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7520" y="4191120"/>
            <a:ext cx="6524280" cy="380880"/>
            <a:chOff x="1217520" y="4191120"/>
            <a:chExt cx="6524280" cy="380880"/>
          </a:xfrm>
        </p:grpSpPr>
        <p:sp>
          <p:nvSpPr>
            <p:cNvPr id="49" name=""/>
            <p:cNvSpPr/>
            <p:nvPr/>
          </p:nvSpPr>
          <p:spPr>
            <a:xfrm>
              <a:off x="1217520" y="4191120"/>
              <a:ext cx="622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vide both sides by whatever number is in front of th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7391160" y="4191120"/>
                  <a:ext cx="3506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" name=""/>
          <p:cNvGrpSpPr/>
          <p:nvPr/>
        </p:nvGrpSpPr>
        <p:grpSpPr>
          <a:xfrm>
            <a:off x="2362320" y="4800600"/>
            <a:ext cx="2987280" cy="837720"/>
            <a:chOff x="2362320" y="4800600"/>
            <a:chExt cx="2987280" cy="837720"/>
          </a:xfrm>
        </p:grpSpPr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4178160" y="4800600"/>
                  <a:ext cx="1171440" cy="83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x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44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3" name=""/>
            <p:cNvSpPr/>
            <p:nvPr/>
          </p:nvSpPr>
          <p:spPr>
            <a:xfrm>
              <a:off x="2362320" y="4925880"/>
              <a:ext cx="169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o you get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4400" y="5791320"/>
            <a:ext cx="7086240" cy="633240"/>
            <a:chOff x="914400" y="5791320"/>
            <a:chExt cx="7086240" cy="633240"/>
          </a:xfrm>
        </p:grpSpPr>
        <p:sp>
          <p:nvSpPr>
            <p:cNvPr id="55" name=""/>
            <p:cNvSpPr/>
            <p:nvPr/>
          </p:nvSpPr>
          <p:spPr>
            <a:xfrm>
              <a:off x="914400" y="5904000"/>
              <a:ext cx="511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12’s cancel and you ge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6026040" y="5791320"/>
                  <a:ext cx="1974600" cy="49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" name=""/>
          <p:cNvGrpSpPr/>
          <p:nvPr/>
        </p:nvGrpSpPr>
        <p:grpSpPr>
          <a:xfrm>
            <a:off x="3274200" y="2971800"/>
            <a:ext cx="3529080" cy="916920"/>
            <a:chOff x="3274200" y="2971800"/>
            <a:chExt cx="3529080" cy="916920"/>
          </a:xfrm>
        </p:grpSpPr>
        <p:grpSp>
          <p:nvGrpSpPr>
            <p:cNvPr id="58" name=""/>
            <p:cNvGrpSpPr/>
            <p:nvPr/>
          </p:nvGrpSpPr>
          <p:grpSpPr>
            <a:xfrm>
              <a:off x="3274200" y="2971800"/>
              <a:ext cx="3529080" cy="916920"/>
              <a:chOff x="3274200" y="2971800"/>
              <a:chExt cx="3529080" cy="916920"/>
            </a:xfrm>
          </p:grpSpPr>
          <p:sp>
            <p:nvSpPr>
              <p:cNvPr id="59" name=""/>
              <p:cNvSpPr/>
              <p:nvPr/>
            </p:nvSpPr>
            <p:spPr>
              <a:xfrm>
                <a:off x="3274200" y="2971800"/>
                <a:ext cx="3529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hen cross multiply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2 times           = 12      = 48 x 3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0" name=""/>
                  <p:cNvSpPr txBox="1"/>
                  <p:nvPr/>
                </p:nvSpPr>
                <p:spPr>
                  <a:xfrm>
                    <a:off x="4282920" y="3544920"/>
                    <a:ext cx="279000" cy="303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5425920" y="3544920"/>
                  <a:ext cx="27900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21:51:56Z</dcterms:created>
  <dc:creator>admin</dc:creator>
  <dc:description/>
  <dc:language>en-US</dc:language>
  <cp:lastModifiedBy>admin</cp:lastModifiedBy>
  <dcterms:modified xsi:type="dcterms:W3CDTF">2007-11-21T22:21:26Z</dcterms:modified>
  <cp:revision>2</cp:revision>
  <dc:subject/>
  <dc:title>November 21 Homework Help </dc:title>
</cp:coreProperties>
</file>